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  <p:sldId id="26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slide" Target="slides/slide1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F3103-B9C9-4F25-936A-AFA154A87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2AA58-C017-45DF-8624-96F1D3CFF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A5CCC6-7809-41B4-A7C7-B3B829E53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C21D88-F1C5-4A0D-8B44-1F8C39157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1B6EDF-5A72-4BA8-99AF-B2282D35E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7EE722-B12C-4A1D-B4A4-04602F9AF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99E08FA-2BD0-4513-A745-90EEA21E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77A6D8-D588-434F-BA13-A37AB8048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DF30E9-817F-4181-8C77-E070695E5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7449A21-171A-48B4-B5B1-33DAFA4C7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F635D9-F5A0-49CD-8A76-D1403BB9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C04448-3856-427D-9AB1-EBF0560E4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1866-503F-4265-BB09-C22EE8018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EB7940-A70C-47D7-B109-F55BCB66B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53A479-DF77-4D35-857C-5645114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D0ED0E-43FC-4800-8400-F90689DDA3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F92F68-070C-4083-BF75-27392D70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7DE3DB6-A86A-48AA-A91C-1E234AC3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4A48B2-4929-498E-92E9-AC3F0195A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4EF7A2-A596-4CAF-B898-D7741891B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CD8ED3D-8248-49A9-AE50-CB4734F02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4A8B6E2-2E57-4319-9BB2-2E560225F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1396A6-B4F7-4F6D-907E-2B75BA8B0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6E8A-F6B2-44D0-B289-6C03F40F8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26F3BE-504D-4ED8-9E04-751DB61F2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E31ADD-0A37-44AB-9728-3145D6782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50BB68-1FD3-4E13-BC5C-196459A2E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B5B1813-66FD-49E4-ACE8-E24AC99B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764286-683B-420D-8D5D-5399A9702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5F66D-D804-48C4-BB0E-C69E75A44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DD4615-8A91-4E8D-B8F5-90E167ED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F8A0CF-36FF-45AE-8C8F-5DCEF1C65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18C350-3C86-458A-8413-57600D619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3AAD51-5DF4-4FEF-813D-AEE6D3B7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D93DAD-BBF1-424C-A819-E89B7F4D0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C8CC85D-1CDD-4016-B134-52FDAD2CA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DF7D67-0C03-4023-8EDB-5923619E9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9A06BA-1D78-4560-8AFA-C8EA897927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447463-F16D-4ED0-8F30-26CE31F7A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CA6F16-7A87-415F-A623-60C1082C3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889DBF-6E6D-4EAE-9D36-A148F7DB1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78417FC-99E6-4D27-991A-1655F6C37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953F06-963A-40A8-9C26-2A6E56F502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CFE1C5-B46E-483A-88C5-9D78DA63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541A78-8A64-4BCA-BF66-18AB98C52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23012-B62B-4644-9739-A25D7798D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61886FC-051B-4DE3-9B53-96018AB7F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EC85F-0F08-4DD9-B521-B024DE0B5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5E308B-F0A4-4616-8A22-93D6B35BB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B0101A-8C80-4482-B345-0BD414AED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32E2BA4-24B3-424B-AD96-29DAFF2ECF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057897D-929E-4B76-91F4-A1EFA911C6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91D45D6-84AA-46E2-9D51-913A3CD9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E40E82-352A-4A12-97D9-03A628ECA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8C1F79-8A3A-40EC-9994-DF8127E3ED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1735A7-7D33-450D-A8E0-C66DCB053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910D2-7A52-4A82-A658-ABDFF9781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126B11-A607-4B8A-9B6D-D93E08EE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515E046-A573-412D-81A8-F0E3E5AC9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0D3459-5CEA-44B7-85DF-452076CE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A31EE6-FB1E-4191-B2D9-A4FE25398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64BFF3-F8DC-42F0-806F-715A53D15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230AC7-0447-459F-97E7-3AACA7DE02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2BE49B-D641-403C-A021-105C20C00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73E93E4-FC16-41DF-8A2A-5F373FCD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E509B2-6E1D-424B-92DE-9F90F5FDC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7DC921-9B92-4E36-9716-528C2F673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BFDB0-4A00-4E47-8117-7EB87D7ED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096505-FCA9-47E8-BE62-851293ED8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875831-FE7C-4917-BE68-AE0E4A273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D00420-3ECD-4EEB-9007-D0910F82E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E1EE48-52E3-4EF9-8A2F-527F0ED03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6641CD-A1FF-4836-A9E6-8608CC020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2BB0DB3-C3E7-4AE9-902B-1764C0681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A7324F-0762-47CE-A561-8D2075418D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65886C2-2BEC-44F0-A2AB-D8350D697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C17A6AC-2DA9-403E-B27B-4BCECB317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40F27-CEEC-450D-ADC8-CA7FEF0C96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F9013-5077-4438-8F9F-FE48BA9D2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387894-8FF6-4A31-B20D-7E0F7E2D3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E8841D1-0FA3-4786-B747-43BE13064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DBC5FDF-7C34-4859-B9B8-497F29AEC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5EAE5F-05B6-4EB7-B77F-DA35678930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E0EB35F-F11F-4F9D-844B-CC03C3A55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D9E7BA-9D21-4EA0-A195-F304275AB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0DBE3F9-0C78-46B9-AF07-B0CE84B70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51890A7-8A5C-443F-8E7C-DBA73232C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A34D05-7645-4412-B03C-296F20FA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83C76A-F63F-429B-9A58-ED4D9E169C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4CA3-7F03-49A5-AF93-4588426B3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4F777D1-EC81-4114-8CB0-BB01716EFC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E9E0AA-F590-4681-BF47-7037B106FF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19BF29F-D9E7-4269-B223-8527F6BBE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7E23478-7467-4752-9D04-7B0BF2E6F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D2851B-39AD-44AF-9B56-71ED87165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2AEE61B-556B-412D-821B-405974565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3CD7D5-86A7-456E-B39E-C218AF505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9F8B09-7C68-49EA-8F30-B956DDCA7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0D3BC0-E36A-4B0A-B21D-075C48CAB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91ECC8-AA40-4EB8-8DB0-143D543A8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2A5DE-79A9-45AE-A084-6C577E2FC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543F306-FB47-4E00-AD97-57BD31150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B7096D5-2439-470E-B801-5443A44A56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CE83D96-E301-49AA-9820-B10544B0F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5203CE5-B3CE-4FC8-9F20-B7F8F40C7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67CED2-5C5F-4219-8EBB-65D8F7571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135320C-06BD-49B7-8AB5-2FD5B9264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52AF8E4-6E7F-4987-9449-3339B7D930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F3AD33-5CF6-4F3C-BEDE-03CD0B323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4D5763C-0192-4E64-BA1F-268C9EAB6C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D99C983-0756-4814-A20D-0B3185DF5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1D83B-F988-48C0-8BBB-B174599D1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C33AF-1862-471D-ACED-914BD510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811A91-7D60-4000-912D-A93B8F73E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8367D04-1FD4-4D75-BE33-C32C49937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28DA6CF-CABA-4B46-99A8-DE19C484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1CDB835-B525-4997-9CE0-9DBCAD3CF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755060-58CF-45E8-8E48-25EBE4F5FB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ACEF37-B613-470B-A3D0-E24DB7D1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AFAD260-FBD0-445D-B956-4BD466475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1C8AC-BDDF-4FBA-B521-52EF64ABB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118EFB2-22F0-4B34-9B5D-7BA2C28EE7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6159E2E-43A5-496A-B1C0-0036A70C4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F9823A-AB60-4110-AEEA-D855BD9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B7FACC-155A-4C98-9450-D6308F572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ED8EF46-9CB4-4502-A338-A010A4FC7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2399A05-E978-4A45-BCF2-46CAD5CD9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A30253-B304-4386-B9DE-4EA6B2899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F92CD32-545E-4341-8D4C-9A4231E6C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7AEF55B-E943-4246-9011-5ACA0ECE7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41D9D8B-355B-460B-8EA5-4C1EFB33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8977CA1-6BB2-457D-BB9B-A0445810D0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648E02-2D99-45FC-BFD7-3A1C674E9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9D0BBB-3A64-47E3-B028-057C76752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0F736-287E-40F9-8D8D-A60C1C5CAA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F9258D-AC62-4C87-8C01-FC01B6993D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E00409-D6EA-4423-B0A5-AF611AC2A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3E0290-8387-45D4-B9FF-688CF2C16F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6E80214-B5AD-4DEF-AADB-02F988AE1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86BDD53-4AA2-4DAD-BE83-1C2EE8754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F5ECD0-19B9-403B-8038-72C7E8822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194BBE3-20AA-4A4F-816B-7E5ACE298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E8ECF0-C0F9-46F7-AD9F-E19BB9F643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82A5531-EE76-4223-8F3E-2D5CCF37D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474E07-CAF1-4778-902B-6509FE0A1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6E3EA-5482-4CB2-ADFA-27C72F09B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3B7A2C6-ED2D-4679-BD6E-BB58C61A8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2C00C3C-90ED-4D41-8428-DBCDD5F8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07134DC-9E67-4352-AF6B-116947842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ED249C4-7177-4A00-AFDB-59C2E874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6E7396-4443-437A-AF2D-050E68F56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6AB66C8-3A4C-4331-84E1-44B92A9B9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A5A0A9A-0CD1-47CC-AE9A-E9B80CCCD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7E99F18-4363-4024-BE2A-5762A197B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28DC9AA-DD83-4BC5-9521-2080EADAA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271C7D0-262B-4B34-82EC-D50796ECE8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EC1F5-687A-4BFE-A4D2-B2AA7DFB68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C112A60-DE8C-4977-A4CB-86906FFBE9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ABFCEF6-F0E0-49E8-998F-FF9274EF47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C5EF932-0A66-4575-8CB0-283A87DD9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809BD-2052-4417-985E-C2B6CCD22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4E047C0-DF77-4F25-B410-7B291ACC7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7F2F52-B9CB-4B58-9F68-27CC3E43B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535A063-60EC-4EF7-A866-F87C0B5C5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B5F4788-2760-49F9-A676-84F26D450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B838467-DB35-4864-850E-EB07D8625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671647-0119-489C-B93C-0BB8E1137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4F10BD-E465-4205-B00E-C94AE1E096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F6BFDEE-D006-48EF-8C49-D0CC2892A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7269DA0-889F-48F4-A85E-49A8A2F27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8FC4868-47D2-4FD4-8FB9-9B4F3509D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105E75-3D3B-48E5-B66D-8F7FD61D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ADE5FD-36D0-4811-AFDC-0BFFBE4F0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97E296-AB50-4E7D-945B-F397B850F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057628-8F23-48D6-906E-0291995BA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6194F-FC90-4DB9-AEDD-E1909FB3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47605A-35CC-40C2-AC9F-3E2C84853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8E7EEC-5EA0-4ADE-9B1A-726AC780B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B56C9B-5309-40DB-B3B9-882E386BC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371BF-71FE-4E16-99B5-458FC94A0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E9875-6066-48CA-A7C3-D02AF3BCD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1727CE-C959-4DC1-852B-2367C2BCC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AD2093-F181-4005-924D-6B20D80BF8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E0F077-AF8E-49EF-B226-A7B419B7F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363F55-CC5F-4977-8D80-FC1464A15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CA6155-D2A6-45A4-8D44-DC97D59E7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D8CB-A736-4B67-AAAC-BB6C72FE5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356B79-E028-4D5B-9F22-1FB857693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616EF8-462A-4BDE-A472-6637C6E7A5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C0AAE-131F-405A-8ED8-5837FFE84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591AD4-EF86-4CBC-B76C-F127D338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6853594-2DFF-4F13-9659-5CEF8A3F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F16BAA-B2A0-4BD6-8DA7-C51C1ABE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75AEE2-8D0A-47E0-8A71-162F2B6A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E0F4BB-B6BD-441E-8A9A-F661AE6D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626201-529F-4FA9-9113-BF613A28FC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2FD97D-26EC-4DDF-B589-66AB9A985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60F0C-2702-45E9-8B90-039843B60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74D85B-8D30-4D85-B97D-B4C61AAD1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5A8D51-956E-40C1-8AF2-3894638DD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A584B87-344F-4BEE-84B8-4C4D2876C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72B678-71D8-4AF5-8534-94403F33F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D5C727A-758A-4442-A295-A754DFF58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DE0551-90B4-44A3-8ABB-FEC68B9A1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E00E6C-24CC-42EE-8703-296D1083A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970873-B70B-4B24-8FA3-FD88B8BF16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8514C4-D3FE-4808-BCF3-E01A198BF9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8CAEEB-67AD-4539-A5B1-4E3246ED2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A1C8A-56BA-4B0E-8C6D-DA1D7CCBF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C9648E-70CD-467D-9372-FDA22258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F2101B-DDB9-4C86-B9EA-0315BC572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A3DC5A-6852-4D0E-BC04-C957BA7E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CBABD3-2317-4AD5-A09D-61F8992B34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59F4DC-5DB7-43BD-A84D-9838B7F02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22A646-5C15-465A-BC9B-64EBB12CEC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DEA8EF-2B7B-4462-8B1F-FE10C4F7B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941A45E-1DC1-4455-8FC2-3C308C10B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0E5A19-50DC-454C-A170-BF8D5E481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636F79-6AFD-4B16-AEC0-F504771F5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868-7BB7-47E3-86DD-DC7D25E13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39C7DD-64BF-4399-A2BF-0FF1CA0E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F96E03-4908-4041-80FC-585946302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85CC61-DFB9-4402-BA97-7869A94698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6876C16-DE0F-4A42-9E26-207F542A5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26628-8A18-4B85-A616-2A4A63CD0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0B5CC9B-CEA1-4701-9535-A0A0C924C9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EE9597F-7C5F-413A-98F7-3CBCF1D30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A72179-A853-49A8-A6F8-A4BA96548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2A5F6D-6A9E-4F09-A2B5-23BE7CF9D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79D600-37C6-4FF0-B979-8A408E49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193E-5BAE-4A13-9458-DF999E52B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48F0E2-BE32-475C-A6BB-73DDC4573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552A6A0-5817-416E-A99B-5884EE1F2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0C3310-4D99-4721-8970-63814651A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45E300-C337-46ED-A646-E93FBEFAB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1B6F28-CCE8-4FE2-8437-8A305ECEC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818782-DC54-42D5-B83F-B9165DCE1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D342A2F-0220-418E-A99F-D0D013E4E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D3B5E-C3F9-4048-80E5-B99A72A91B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0B2AEB-980E-470A-8AD6-C9481557D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C9828EB-819D-412A-961E-B2FD1312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8CF88-1FBF-42A6-BEBA-82F34780F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202F02-CAB6-48D3-9D33-0EC0796C77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5DEA51-3053-420B-840D-4A66FBC8A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52B72-7C30-478E-A1B5-41D54209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4C738F-7332-4564-A880-D0F3B15FB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A1800E-2EE2-41F0-94C5-E5ECE911EA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413F990-8726-47AA-AE4D-AA8AD520E2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DEFFC5-4C0E-4C77-80A4-9DFEC123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D78808C-A0FB-49AF-A65A-BB65B210BA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D8615D-6C9B-491F-ACAF-A02D2356A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7F66FA-C541-4E13-9531-EE1EEF5F0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1F02B1-D745-4BC0-8DE8-B6BFA2AFA22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B4A51-F92B-4683-AF42-4569655D352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11B7C-F229-4E66-A5BA-9529BFFD915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563CF-8717-44A3-BCCB-47DC668FB3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2D1DB-1858-4D67-9A0A-7459C6D6460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00856-CC23-4EA4-B5C6-CFB27E7F995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CC647-3A56-48BC-B6E4-15A3E0D8997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59C307-822D-4102-9881-AF4795A0C2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8FC06-DBAE-467B-B29C-003D96C2C3F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0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0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1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1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1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1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1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61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61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62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6E256-073B-42BF-AC0A-724A0EEFBAB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AA0-CD3C-4596-9ED1-C4A0AE639C2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67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67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7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67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DE39D-F7A9-4361-BB9D-B918B7F2924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6416C-12A3-462E-8F3E-77E139A7C67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A45E19-78B3-4A08-8BA8-769447F0C32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02C-69AC-4256-87F7-CBC96FF29AE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76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76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7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77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E46B-5003-49DB-A0AE-750145764C8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8CA9E3-D8D0-4FC5-86D8-DC8099FB95D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F131B2-C9DA-4C26-83E6-A7A4DF4612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DAC4B-2D3E-40B8-85D3-BB841066FE7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86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86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87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7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91624-5A99-4811-9DD0-ECBE7350C13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4995C-6C27-4E20-A9A8-A378F986188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870F54-175A-4816-99D6-2D323F08B70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32C8D2-D11A-47AB-B384-AD9EB444BAD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9BB99F-1402-436C-8D48-FD40DBD73D4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3F363-674F-46E3-B0E8-B957B5CB6AB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96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96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6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96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96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96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6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7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97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97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7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97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41037-4FE6-4B48-9AF1-C8AF2544922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E6F36D-14DF-4648-A327-505A7F5AA89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8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D1778-0A62-463F-A0E2-F463CB84C6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12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12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13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13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1720F6-3F99-4CFF-935D-634EA6CAB6D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0D1B3-B63D-45BF-892F-C344390764E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F7D74-CE12-4CFD-827D-6DAB17D2FA2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914A79-4AAA-484B-80D3-B3A557E2E01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22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22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22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3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23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4D3896-FFBE-4777-A764-E46667A6403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F39C03-7E3A-4157-AB28-BC592300373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3500-A818-4D45-97D5-807EF1D506F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C3978-055C-4E44-A495-647D44B92C0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83212-BE6E-4A23-B746-71195D2920D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3EF9E-4EAA-48D8-9081-66E0E3B4A7C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36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37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37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39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39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162E2-8456-474E-A0EA-F777ED308EA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25928-94FA-4D83-9832-8EF7F3E7DD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2" name="Picture 1" descr=""/>
          <p:cNvPicPr/>
          <p:nvPr/>
        </p:nvPicPr>
        <p:blipFill>
          <a:blip r:embed="rId1"/>
          <a:stretch/>
        </p:blipFill>
        <p:spPr>
          <a:xfrm>
            <a:off x="2185920" y="3038400"/>
            <a:ext cx="477216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6" name="Picture 1" descr=""/>
          <p:cNvPicPr/>
          <p:nvPr/>
        </p:nvPicPr>
        <p:blipFill>
          <a:blip r:embed="rId1"/>
          <a:stretch/>
        </p:blipFill>
        <p:spPr>
          <a:xfrm>
            <a:off x="480960" y="909720"/>
            <a:ext cx="8182080" cy="5038560"/>
          </a:xfrm>
          <a:prstGeom prst="rect">
            <a:avLst/>
          </a:prstGeom>
          <a:ln w="0">
            <a:noFill/>
          </a:ln>
        </p:spPr>
      </p:pic>
      <p:sp>
        <p:nvSpPr>
          <p:cNvPr id="1047" name="矩形 2"/>
          <p:cNvSpPr/>
          <p:nvPr/>
        </p:nvSpPr>
        <p:spPr>
          <a:xfrm>
            <a:off x="3214800" y="1714680"/>
            <a:ext cx="1928880" cy="442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矩形 3"/>
          <p:cNvSpPr/>
          <p:nvPr/>
        </p:nvSpPr>
        <p:spPr>
          <a:xfrm>
            <a:off x="1031760" y="2651040"/>
            <a:ext cx="1754280" cy="4572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9" name="矩形 4"/>
          <p:cNvSpPr/>
          <p:nvPr/>
        </p:nvSpPr>
        <p:spPr>
          <a:xfrm>
            <a:off x="8001000" y="2643120"/>
            <a:ext cx="907920" cy="4431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0" name="矩形 5"/>
          <p:cNvSpPr/>
          <p:nvPr/>
        </p:nvSpPr>
        <p:spPr>
          <a:xfrm>
            <a:off x="571680" y="3179880"/>
            <a:ext cx="1500120" cy="3855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1" name="矩形 6"/>
          <p:cNvSpPr/>
          <p:nvPr/>
        </p:nvSpPr>
        <p:spPr>
          <a:xfrm>
            <a:off x="7251840" y="3635280"/>
            <a:ext cx="132084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矩形 7"/>
          <p:cNvSpPr/>
          <p:nvPr/>
        </p:nvSpPr>
        <p:spPr>
          <a:xfrm>
            <a:off x="571680" y="4071960"/>
            <a:ext cx="15001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3" name="矩形 8"/>
          <p:cNvSpPr/>
          <p:nvPr/>
        </p:nvSpPr>
        <p:spPr>
          <a:xfrm>
            <a:off x="2428920" y="4572000"/>
            <a:ext cx="1285920" cy="3715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9" dur="1000"/>
                                        <p:tgtEl>
                                          <p:spTgt spid="10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4" dur="1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1000"/>
                                        <p:tgtEl>
                                          <p:spTgt spid="10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1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4" dur="1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9" dur="1000"/>
                                        <p:tgtEl>
                                          <p:spTgt spid="10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4" name="Picture 1" descr=""/>
          <p:cNvPicPr/>
          <p:nvPr/>
        </p:nvPicPr>
        <p:blipFill>
          <a:blip r:embed="rId1"/>
          <a:stretch/>
        </p:blipFill>
        <p:spPr>
          <a:xfrm>
            <a:off x="433440" y="1324080"/>
            <a:ext cx="8277120" cy="4209840"/>
          </a:xfrm>
          <a:prstGeom prst="rect">
            <a:avLst/>
          </a:prstGeom>
          <a:ln w="0">
            <a:noFill/>
          </a:ln>
        </p:spPr>
      </p:pic>
      <p:sp>
        <p:nvSpPr>
          <p:cNvPr id="1055" name="矩形 2"/>
          <p:cNvSpPr/>
          <p:nvPr/>
        </p:nvSpPr>
        <p:spPr>
          <a:xfrm>
            <a:off x="785880" y="1285920"/>
            <a:ext cx="185724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6" name="矩形 3"/>
          <p:cNvSpPr/>
          <p:nvPr/>
        </p:nvSpPr>
        <p:spPr>
          <a:xfrm>
            <a:off x="1011240" y="2179800"/>
            <a:ext cx="1571760" cy="4140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矩形 4"/>
          <p:cNvSpPr/>
          <p:nvPr/>
        </p:nvSpPr>
        <p:spPr>
          <a:xfrm>
            <a:off x="2475000" y="2654280"/>
            <a:ext cx="2047680" cy="38268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矩形 5"/>
          <p:cNvSpPr/>
          <p:nvPr/>
        </p:nvSpPr>
        <p:spPr>
          <a:xfrm>
            <a:off x="2575080" y="4051440"/>
            <a:ext cx="1357200" cy="3841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9" name="矩形 6"/>
          <p:cNvSpPr/>
          <p:nvPr/>
        </p:nvSpPr>
        <p:spPr>
          <a:xfrm>
            <a:off x="4500720" y="4500720"/>
            <a:ext cx="1428480" cy="38232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0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6" dur="1000"/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1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6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3" name="Picture 1" descr=""/>
          <p:cNvPicPr/>
          <p:nvPr/>
        </p:nvPicPr>
        <p:blipFill>
          <a:blip r:embed="rId1"/>
          <a:stretch/>
        </p:blipFill>
        <p:spPr>
          <a:xfrm>
            <a:off x="438120" y="828720"/>
            <a:ext cx="82677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4" name="Picture 1" descr=""/>
          <p:cNvPicPr/>
          <p:nvPr/>
        </p:nvPicPr>
        <p:blipFill>
          <a:blip r:embed="rId1"/>
          <a:stretch/>
        </p:blipFill>
        <p:spPr>
          <a:xfrm>
            <a:off x="423720" y="1380960"/>
            <a:ext cx="8296560" cy="409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5" name="Picture 1" descr=""/>
          <p:cNvPicPr/>
          <p:nvPr/>
        </p:nvPicPr>
        <p:blipFill>
          <a:blip r:embed="rId1"/>
          <a:stretch/>
        </p:blipFill>
        <p:spPr>
          <a:xfrm>
            <a:off x="609480" y="1366920"/>
            <a:ext cx="7925040" cy="4124160"/>
          </a:xfrm>
          <a:prstGeom prst="rect">
            <a:avLst/>
          </a:prstGeom>
          <a:ln w="0">
            <a:noFill/>
          </a:ln>
        </p:spPr>
      </p:pic>
      <p:sp>
        <p:nvSpPr>
          <p:cNvPr id="1026" name="矩形 2"/>
          <p:cNvSpPr/>
          <p:nvPr/>
        </p:nvSpPr>
        <p:spPr>
          <a:xfrm>
            <a:off x="1143000" y="135720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矩形 3"/>
          <p:cNvSpPr/>
          <p:nvPr/>
        </p:nvSpPr>
        <p:spPr>
          <a:xfrm>
            <a:off x="1071720" y="22860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矩形 4"/>
          <p:cNvSpPr/>
          <p:nvPr/>
        </p:nvSpPr>
        <p:spPr>
          <a:xfrm>
            <a:off x="1071720" y="3143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9" name="矩形 5"/>
          <p:cNvSpPr/>
          <p:nvPr/>
        </p:nvSpPr>
        <p:spPr>
          <a:xfrm>
            <a:off x="1071720" y="371484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0" name="矩形 6"/>
          <p:cNvSpPr/>
          <p:nvPr/>
        </p:nvSpPr>
        <p:spPr>
          <a:xfrm>
            <a:off x="1071720" y="45720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0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0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0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0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0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1" name="Picture 1" descr=""/>
          <p:cNvPicPr/>
          <p:nvPr/>
        </p:nvPicPr>
        <p:blipFill>
          <a:blip r:embed="rId1"/>
          <a:stretch/>
        </p:blipFill>
        <p:spPr>
          <a:xfrm>
            <a:off x="495360" y="1338120"/>
            <a:ext cx="8153280" cy="4181760"/>
          </a:xfrm>
          <a:prstGeom prst="rect">
            <a:avLst/>
          </a:prstGeom>
          <a:ln w="0">
            <a:noFill/>
          </a:ln>
        </p:spPr>
      </p:pic>
      <p:sp>
        <p:nvSpPr>
          <p:cNvPr id="1032" name="矩形 2"/>
          <p:cNvSpPr/>
          <p:nvPr/>
        </p:nvSpPr>
        <p:spPr>
          <a:xfrm>
            <a:off x="1071720" y="135720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矩形 3"/>
          <p:cNvSpPr/>
          <p:nvPr/>
        </p:nvSpPr>
        <p:spPr>
          <a:xfrm>
            <a:off x="1071720" y="2357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矩形 4"/>
          <p:cNvSpPr/>
          <p:nvPr/>
        </p:nvSpPr>
        <p:spPr>
          <a:xfrm>
            <a:off x="928800" y="314316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矩形 5"/>
          <p:cNvSpPr/>
          <p:nvPr/>
        </p:nvSpPr>
        <p:spPr>
          <a:xfrm>
            <a:off x="1000080" y="4143240"/>
            <a:ext cx="42876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6" name="矩形 6"/>
          <p:cNvSpPr/>
          <p:nvPr/>
        </p:nvSpPr>
        <p:spPr>
          <a:xfrm>
            <a:off x="928800" y="46432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1000"/>
                                        <p:tgtEl>
                                          <p:spTgt spid="10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0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10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3" dur="1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7" name="Picture 1" descr=""/>
          <p:cNvPicPr/>
          <p:nvPr/>
        </p:nvPicPr>
        <p:blipFill>
          <a:blip r:embed="rId1"/>
          <a:stretch/>
        </p:blipFill>
        <p:spPr>
          <a:xfrm>
            <a:off x="461880" y="976320"/>
            <a:ext cx="8220240" cy="49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1" descr=""/>
          <p:cNvPicPr/>
          <p:nvPr/>
        </p:nvPicPr>
        <p:blipFill>
          <a:blip r:embed="rId1"/>
          <a:stretch/>
        </p:blipFill>
        <p:spPr>
          <a:xfrm>
            <a:off x="428760" y="714240"/>
            <a:ext cx="8200800" cy="59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9" name="Picture 2" descr=""/>
          <p:cNvPicPr/>
          <p:nvPr/>
        </p:nvPicPr>
        <p:blipFill>
          <a:blip r:embed="rId1"/>
          <a:stretch/>
        </p:blipFill>
        <p:spPr>
          <a:xfrm>
            <a:off x="519120" y="2376360"/>
            <a:ext cx="8105760" cy="2266920"/>
          </a:xfrm>
          <a:prstGeom prst="rect">
            <a:avLst/>
          </a:prstGeom>
          <a:ln w="0">
            <a:noFill/>
          </a:ln>
        </p:spPr>
      </p:pic>
      <p:sp>
        <p:nvSpPr>
          <p:cNvPr id="1040" name="矩形 2"/>
          <p:cNvSpPr/>
          <p:nvPr/>
        </p:nvSpPr>
        <p:spPr>
          <a:xfrm>
            <a:off x="928800" y="3286080"/>
            <a:ext cx="428400" cy="4287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矩形 3"/>
          <p:cNvSpPr/>
          <p:nvPr/>
        </p:nvSpPr>
        <p:spPr>
          <a:xfrm>
            <a:off x="928800" y="3857760"/>
            <a:ext cx="428400" cy="4284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1000"/>
                                        <p:tgtEl>
                                          <p:spTgt spid="10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10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2" name="Picture 1" descr=""/>
          <p:cNvPicPr/>
          <p:nvPr/>
        </p:nvPicPr>
        <p:blipFill>
          <a:blip r:embed="rId1"/>
          <a:stretch/>
        </p:blipFill>
        <p:spPr>
          <a:xfrm>
            <a:off x="480960" y="1324080"/>
            <a:ext cx="8182080" cy="4209840"/>
          </a:xfrm>
          <a:prstGeom prst="rect">
            <a:avLst/>
          </a:prstGeom>
          <a:ln w="0">
            <a:noFill/>
          </a:ln>
        </p:spPr>
      </p:pic>
      <p:sp>
        <p:nvSpPr>
          <p:cNvPr id="1043" name="矩形 2"/>
          <p:cNvSpPr/>
          <p:nvPr/>
        </p:nvSpPr>
        <p:spPr>
          <a:xfrm>
            <a:off x="1122480" y="2689200"/>
            <a:ext cx="1500120" cy="44280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7"/>
          <p:cNvSpPr/>
          <p:nvPr/>
        </p:nvSpPr>
        <p:spPr>
          <a:xfrm>
            <a:off x="1143000" y="4071960"/>
            <a:ext cx="2000160" cy="43164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矩形 8"/>
          <p:cNvSpPr/>
          <p:nvPr/>
        </p:nvSpPr>
        <p:spPr>
          <a:xfrm>
            <a:off x="1149480" y="5014800"/>
            <a:ext cx="5715000" cy="414360"/>
          </a:xfrm>
          <a:prstGeom prst="rect">
            <a:avLst/>
          </a:prstGeom>
          <a:solidFill>
            <a:srgbClr val="7481a8"/>
          </a:solidFill>
          <a:ln w="12600">
            <a:solidFill>
              <a:srgbClr val="7481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2" dur="10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7" dur="1000"/>
                                        <p:tgtEl>
                                          <p:spTgt spid="10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10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/>
  <dc:description/>
  <dc:language>en-US</dc:language>
  <cp:lastModifiedBy>加冕成王</cp:lastModifiedBy>
  <dcterms:modified xsi:type="dcterms:W3CDTF">2020-07-17T09:10:1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